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B46-7934-4F83-A7DC-24B5C8B7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99B-646E-406C-934D-794C05B8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312-6141-4A83-9D5E-BD7BFE1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95F-1C6B-45E4-84C4-E567010E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10E-F8F8-4D7D-8957-1E83798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6A6-D072-4DE2-952B-34AEDF4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E4E-2F7A-47CB-A6EC-3B30829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0CD-2C0E-403B-8E11-EF9C6011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4C4-FDD4-48AE-89A5-A9C5EF2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F57-A9EC-49B0-8508-540475D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879-6A68-406E-93FE-1759DD7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D2A-ABC6-42AC-9D2F-28B2541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6194-1207-4590-A978-A1800B5DA9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hy M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rst, a look at our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ur meetings i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mmer rese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en meetings in the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st Lake MUN, November 14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IMUN in March, 2009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other middle school event i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ssibly a conference in May of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 are a ne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N is the “track and field” of academic extracurricular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blic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ing and writ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rr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 want to lead a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simulate means to pretend, and you are pretending to be a decision m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cover new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derstand the issues in today’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 new vocabulary and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ttempt to solve the world’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ind out that this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veryone else is doing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ving in an international setting, you already understand that many of the challenges facing humans respect no national bound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need informed businessman, doctors, lawyers, scientists, teachers, IT professionals, artists, financiers, politicians, professors, and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y mom said I hav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N is one of the most widely-recognized extra curricular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ny 1000s of 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oks great on a college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ch Uproar over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want to travel and meet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ferences can involve students from all over th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k hard, play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ny professional relationships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co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ference leadership can be very exc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ech 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the problem /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th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ech 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5:52:39Z</dcterms:created>
  <dc:creator>trobinson</dc:creator>
  <dc:description/>
  <dc:language>en-US</dc:language>
  <cp:lastModifiedBy>trobinson</cp:lastModifiedBy>
  <dcterms:modified xsi:type="dcterms:W3CDTF">2008-05-06T08:38:12Z</dcterms:modified>
  <cp:revision>3</cp:revision>
  <dc:subject/>
  <dc:title>Why MUN?</dc:title>
</cp:coreProperties>
</file>